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11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55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5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76C9-74FE-491B-906C-A61D1F59E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922-592C-4B8F-B475-460DF79BE0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3C76-278A-4D5C-A3AF-1094705823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94CD-7483-43B2-9258-1B47887EDF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AC04-09EB-4409-A31F-56E0404D9F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67D-77D6-4670-A213-13C691E53F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2EC-FA39-43FE-9D1F-46EBCE1B70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E684-0D33-433E-B735-063CFA32CC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963-9A25-41E8-9A2F-59B499A587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50A-17E0-4CF0-BB6D-69E064A9D4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772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94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85D2-1CB6-4C3D-B260-A2FA21FA13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241-2C55-417C-B90F-2A3052DD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E98-4EA1-4B9E-9D5A-1B3243A8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A3C28-246C-49DC-84C7-A7D5AE5B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07C17-3701-46E3-ABD0-5DAD9747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89CFC-FBBB-4B68-8E42-82F60348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B4DB3-B241-4B9F-BBED-446B55F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8EF8A-3331-42C7-9679-9959E29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0ED2D9-ABAB-4901-8C46-BCB38A9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B3555-43ED-421E-B023-7588F7B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A25C3-C5E8-4654-BA6C-5739A260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4C1826-4201-49AB-8A6F-6C248475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C51-F2CC-44E1-87DC-A0141746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EDD-6B1E-4E73-B0DA-9AC0CB22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53C76-36B7-4E30-9489-D9D27BB5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C48B-B7B8-49EF-8BEB-9F94BB2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6C93B-FE1F-4B21-998C-C356982B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82065-D6C0-4737-BF5A-C567CBA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32608-12B0-435D-9A13-7FA1D10B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D8123-D4BC-41CB-BB0E-011CD453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339D4-EB72-47F0-AC96-190CC457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69E-B2C3-442C-942A-BCF03099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A9E0F-761F-4CE1-A378-94D99E8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6F99E-863F-4568-887F-7A6D7B34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E053C-77B1-4D45-94CD-28BD26C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064D6-C5DE-435C-A606-B2ADA3E6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D661D-5D19-4DE0-BC8D-84159B25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7CDC-3673-49E0-A861-3FACD194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BADE-F255-4E56-AC27-594F28B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207D-9609-4AD9-A4B6-C7A527F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4864-14BB-4909-AC14-2E8B9914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38B2-B1B1-43F7-B9F6-08A2E48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FC4-29AF-43E9-A3D7-B1A28EF5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44F2-8247-4B0A-BDC3-6C11CEB1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5F40-AFE5-4AB3-B003-B37EB7E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6D3A-0924-4886-8241-A5485B5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9BD9-9E3E-4F88-82FC-1A433EF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8254-E894-41E9-A997-557A8687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FD72-A993-4714-9342-430F1680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D125-3635-4131-8C23-3099EF70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29ECC-8855-4020-91D1-240EF8E9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36D84-5550-45EF-99ED-E80D6B69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20A24-07CD-4F6F-9E2C-7F5713E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A3A-F2E7-464B-A380-23E94123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7AE6B-7FA6-4673-A84B-38CB459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469A9-8239-4B43-B829-31B8B6C5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CACB6-8AB9-4592-BEC7-D320551B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45054-F156-42AE-8A7C-8427786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44CE0-434E-488F-A6AB-B3DC425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8D36B-6450-45CC-B1E8-ECA8E3CB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3276F-266D-46DC-B155-481F8A6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62AC1-C495-4851-B761-7ACF6CFE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8311F-AFFB-4164-A3EA-131646E0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85E4-90FA-4D57-A883-2A25E742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6DA-DB6D-4A77-983A-414BC9B6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CD9F-6141-4FCE-8228-E84E0ED2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7A2E2-EA73-4313-A114-014427A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9432-4044-4D49-A34A-33BABE28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8D98-2FA8-4EA4-A598-AF22E1E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5EFA-B05B-4AA4-981C-7EDC416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D14B-12FB-4BDC-85D9-7B110EB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BE6E0-3B3D-445C-BC27-9E30167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661B-580F-44BC-B72B-E923236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3AAE-CF8D-4047-81D2-0E45C34A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331D-95CD-422E-A3A2-43AAAD27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341-A6BE-4846-998A-3CD7833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CF9C-FBF9-4ECB-B3BB-640B38C7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6800-AB2A-4781-9EFE-3CFBA34F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DB53F-2116-4D9D-92C0-AF4F7F78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DF47F-DE6B-44F4-A678-3AC5B278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CCA6-A049-4FAA-87E0-9CADE79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A3D9-4B8B-447B-ADBE-7825FA18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24E9-7832-4CAF-BA45-4E400CD4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3F6D-A47F-444C-AC2A-8D36FE9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856A-BC10-4718-B481-0B5106C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BFC6-5D29-4E7F-940A-9E60604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67C-1EAF-451F-A1C1-208D553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625A-035F-4DE1-9DFC-4EB5EE9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41EF-AAF5-4B2A-9DE3-B2F48CC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DFB8-5E0F-4705-8A4F-5EED83C9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8FC1-24B2-45F9-941E-B5558B9D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5D7C-2464-4990-A796-F469935D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F8CE-3AB4-4420-A197-5C47F8C5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D66AC-7D0C-4FC0-80AA-9B05729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3868B-FA79-4FE3-8D85-36A57972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1188-2552-41CC-9E94-562F15A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4266A-766D-4298-91FE-0F5AD3C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D74-A433-480E-A80E-1EDEFF05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EE59F-CB62-42F5-990C-38456FF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50D2-3717-4756-9AB2-1AE6911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0137-343E-487E-8804-FDF4B034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6AFE-909C-4706-9BF2-F0B84E3E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33A3-70DF-4726-A723-470B3B86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184E8-0B0C-497B-AE88-38B1F59F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A93626-C75C-4C3E-80D0-4CAA081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051E5-A68C-4FC1-841C-7C05499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A5276-1412-4483-8747-901FFC35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9A26B-54B9-4CD9-8BA4-D0A7B15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CB9-1A05-431F-B3C7-0DD3FAD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A30408-CFB4-4FDB-9B66-1C37DDE9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534E6-D39B-4FCB-9652-463033D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45A8C-D957-4D16-8455-1870C09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4E214-BF0F-4070-B16F-F4886FCB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EEF5D-7559-4955-9E2B-7735D556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1EC90-E2D7-4A68-A6F8-E60B784C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C3300-6C45-4D39-A0C5-556438DF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04A23-D34F-428D-A4E9-A73172D8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220357-A92A-4ACD-B188-6905D31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824404-C6B2-48FC-A2FD-E86FF0A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55C7-B0F3-4A8D-8F76-657AE9C0615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0D0-BBA2-4553-BB61-0A986B8ECF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596-DB4E-4ED3-8FE1-CC41DEB86A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A2D-1C71-4DA7-8DFE-16B8C48D0F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F7AB-64A7-4B79-8EFB-3B7114479B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7047-43AE-47D2-8FF5-58EBBFAD9D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BBA-BE67-4871-9B56-7D3FECF8B3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75C-6F2D-49DE-8BB3-B29670119D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CA9-B7CD-4C46-9443-C84C76FA91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Imagine you are a soldier who is returning home from war: 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are some things that you might want to do when you get home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ir nam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re are they fro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branch of the service? (Army, Navy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theater of war? (Europe, Pacific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d they go to colleg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was their majo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d they take advantage of the GI Bill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career path did they choos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y might a returning soldier want to return to school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some obstacles that might prevent that soldier from returning to school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7245360" cy="30477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45: Millions of soldiers return home from the war seeking a chance at the “American Dream”…How did America respond?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8" name="MS900431066[1].wav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Rob\Local Settings\Temporary Internet Files\Content.IE5\U6LQL875\MP900305845[1].jpg"/>
          <p:cNvPicPr/>
          <p:nvPr/>
        </p:nvPicPr>
        <p:blipFill>
          <a:blip r:embed="rId3"/>
          <a:stretch/>
        </p:blipFill>
        <p:spPr>
          <a:xfrm>
            <a:off x="990720" y="228600"/>
            <a:ext cx="1371600" cy="1119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endwarkiss.jpg"/>
          <p:cNvPicPr/>
          <p:nvPr/>
        </p:nvPicPr>
        <p:blipFill>
          <a:blip r:embed="rId4"/>
          <a:stretch/>
        </p:blipFill>
        <p:spPr>
          <a:xfrm>
            <a:off x="1295280" y="16765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0"/>
          <p:cNvSpPr/>
          <p:nvPr/>
        </p:nvSpPr>
        <p:spPr>
          <a:xfrm>
            <a:off x="1295280" y="4191120"/>
            <a:ext cx="251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Rockwell"/>
              </a:rPr>
              <a:t>Photo courtesy of http://gi.grolier.com/wwii/photos/wwii_photos.html</a:t>
            </a:r>
            <a:endParaRPr b="0" lang="en-US" sz="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2" name="Picture 11" descr="goodbyetogi.jpg"/>
          <p:cNvPicPr/>
          <p:nvPr/>
        </p:nvPicPr>
        <p:blipFill>
          <a:blip r:embed="rId5"/>
          <a:stretch/>
        </p:blipFill>
        <p:spPr>
          <a:xfrm>
            <a:off x="6477120" y="3809880"/>
            <a:ext cx="1930320" cy="2438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2"/>
          <p:cNvSpPr/>
          <p:nvPr/>
        </p:nvSpPr>
        <p:spPr>
          <a:xfrm>
            <a:off x="6553080" y="6248520"/>
            <a:ext cx="1828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Rockwell"/>
              </a:rPr>
              <a:t>http://papergreat.blogspot.com/2011/06/rev-rickards-complimentary-copy-of-good.html</a:t>
            </a:r>
            <a:endParaRPr b="0" lang="en-US" sz="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3962520" y="1676520"/>
            <a:ext cx="4495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y 8, 1945: Allies declare victory in Europe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ugust 15, 1945: Japan announces its surrender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he War is Over!!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838080" y="4724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llions of American soldiers return…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1295280" y="5791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ut how would America integrate them back into society?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94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Serviceman’s Readjustment Act of 1944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(G.I. Bill)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Background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Some asked if it was right to pay  returning soldier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Should military service entitle one to government benefits or should it be an obligation to one’s country?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ongress hoped to avoid a repeat of the “Bonus Army” standoff that gripped Washington D.C. in 1932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President Franklin D. Roosevelt signs G.I. Bill into law June 1944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9" name="Picture 3" descr="C:\Documents and Settings\Rob\Local Settings\Temporary Internet Files\Content.IE5\69JE64VS\MC900329197[1].wmf"/>
          <p:cNvPicPr/>
          <p:nvPr/>
        </p:nvPicPr>
        <p:blipFill>
          <a:blip r:embed="rId2"/>
          <a:stretch/>
        </p:blipFill>
        <p:spPr>
          <a:xfrm>
            <a:off x="990720" y="380880"/>
            <a:ext cx="1082520" cy="76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Benefits for Returning G.I.’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Eligible for money to further one’s education at any college, university, trade school or vocational school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Eligible for low interest home loans with zero money down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52-20 Clause: Enabled all former servicemen to receive $20 a week in unemployment benefits for 52 week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Picture 2" descr="C:\Documents and Settings\Rob\Local Settings\Temporary Internet Files\Content.IE5\272ZSMW3\MP900305843[1].jpg"/>
          <p:cNvPicPr/>
          <p:nvPr/>
        </p:nvPicPr>
        <p:blipFill>
          <a:blip r:embed="rId2"/>
          <a:stretch/>
        </p:blipFill>
        <p:spPr>
          <a:xfrm>
            <a:off x="762120" y="2286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Were G.I. Bill benefits open to African Americans?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--Yes…in theory.  Although there was nothing in the bill that specifically barred African Americans from receiving benefits, far fewer African Americans actually received them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Rockwell"/>
              </a:rPr>
              <a:t>Why???</a:t>
            </a:r>
            <a:endParaRPr b="0" lang="en-US" sz="5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5" name="Picture 2" descr="C:\Documents and Settings\Rob\Local Settings\Temporary Internet Files\Content.IE5\5AY0LMZF\MC900333308[1].wmf"/>
          <p:cNvPicPr/>
          <p:nvPr/>
        </p:nvPicPr>
        <p:blipFill>
          <a:blip r:embed="rId2"/>
          <a:stretch/>
        </p:blipFill>
        <p:spPr>
          <a:xfrm>
            <a:off x="1143000" y="228600"/>
            <a:ext cx="8985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Political Climate: Some of the biggest supporters of the G.I. Bill were avid segregationist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Poverty: Many African Americans were impoverished before the war and came back to the same circumstances.  Many could not afford to go college because they had to find work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Discrimination: Many colleges and universities were segregated and/or had quota systems that restricted the number of African Americans who could be admitted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Lack of resources: Black colleges and universities were usually among the poorest schools and often found themselves unable to make room for all the returning G.I.’s who wanted to attend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Picture 2" descr="C:\Documents and Settings\Rob\Local Settings\Temporary Internet Files\Content.IE5\8LPDKLMI\MC900337882[1].wmf"/>
          <p:cNvPicPr/>
          <p:nvPr/>
        </p:nvPicPr>
        <p:blipFill>
          <a:blip r:embed="rId2"/>
          <a:stretch/>
        </p:blipFill>
        <p:spPr>
          <a:xfrm>
            <a:off x="838080" y="152280"/>
            <a:ext cx="1219320" cy="107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Results of the G.I. Bill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% of World War II veterans used G.I. Bill benefits to further education and/or buy a hous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ly 20% of African American veterans who applied for education benefits were able to use th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1" name="Picture 2" descr="C:\Documents and Settings\Rob\Local Settings\Temporary Internet Files\Content.IE5\U6LQL875\MP900305845[1].jpg"/>
          <p:cNvPicPr/>
          <p:nvPr/>
        </p:nvPicPr>
        <p:blipFill>
          <a:blip r:embed="rId2"/>
          <a:stretch/>
        </p:blipFill>
        <p:spPr>
          <a:xfrm>
            <a:off x="762120" y="380880"/>
            <a:ext cx="1295280" cy="8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3:13:20Z</dcterms:created>
  <dc:creator>Rob</dc:creator>
  <dc:description/>
  <dc:language>en-US</dc:language>
  <cp:lastModifiedBy>Rob</cp:lastModifiedBy>
  <dcterms:modified xsi:type="dcterms:W3CDTF">2012-02-13T04:38:50Z</dcterms:modified>
  <cp:revision>25</cp:revision>
  <dc:subject/>
  <dc:title>Slide 1</dc:title>
</cp:coreProperties>
</file>